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EA3-1C24-44A2-AA01-56712184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6F1-E4B8-4641-8E02-872FBCE5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5BB-1E40-451D-BAEE-A4CC9933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5E4-0F7B-4DEC-B71A-F8940F76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5053-E427-4906-9807-FA236CAE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4DEC-1279-4E28-8001-9F541D70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7EDF-4E75-4DEA-BB9D-B50D5F11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A7BC-F1F0-4593-9AD2-2E86B31A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C6B3-C6D5-4B62-A546-F65E0BD4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4018-E7B4-44F0-A3FF-F1BB77A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2C73-DA20-47FE-84BD-595D6693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54F-7014-40E3-B489-0194853B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ABA4-7178-4400-9063-818735FE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7B08-5D6A-425E-917D-48B00B34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D56B-B791-447B-95B3-11A79134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F0CE-1804-4402-9F67-C7474581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FD59-105B-47A2-B544-685D806C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FCD-2F57-4286-8355-A22B7770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26F-517F-42E8-A37A-0CB7D160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3FF-2832-4696-A237-8C0C1B6B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5F3-456F-48D0-974B-6BB1C5D1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0C0-816B-4567-AE06-DE6AD77D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DAA-6AAC-4845-8833-9531DCEB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D39-72AB-4091-BF6D-CE43D29D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594D-FF77-4310-A843-A2BF8BF58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012760"/>
              <a:ext cx="712440" cy="474480"/>
              <a:chOff x="293760" y="2012760"/>
              <a:chExt cx="71244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012760"/>
                <a:ext cx="43848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01276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435040"/>
              <a:ext cx="739800" cy="474480"/>
              <a:chOff x="417600" y="2435040"/>
              <a:chExt cx="73980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435040"/>
                <a:ext cx="422640" cy="47448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435040"/>
                <a:ext cx="370080" cy="4744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B581-9907-4A4E-A8E0-AE020BD8E227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0BA3-9CCA-46CC-A041-A1DC6212CA98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olving problems by search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T.Tammet mix o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materials, incl Norvig A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pter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 matrix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Four cities &amp;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2796120" y="20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948400" y="524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5310720" y="356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119600" y="364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273420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2719800" y="4175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5624640" y="1736640"/>
            <a:ext cx="2833560" cy="25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atic int dist[][] =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{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5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3}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5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9}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4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6}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3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9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6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}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5873400" y="43038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     1     2  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8380080" y="2209680"/>
            <a:ext cx="311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 matrix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Route 0,2,3,1,0 cost 4+6+9+5 =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5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2796120" y="20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2948400" y="524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5310720" y="356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119600" y="364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265788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273420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1523880" y="28195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2133720" y="533412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V="1">
            <a:off x="5105520" y="274284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040" y="228600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 matrix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Route 0,2,1,3,0 cost 4+2+9+3 = 1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796120" y="20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2948400" y="524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5310720" y="356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119600" y="364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25819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719800" y="4175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1523880" y="28195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24"/>
          <p:cNvSpPr/>
          <p:nvPr/>
        </p:nvSpPr>
        <p:spPr>
          <a:xfrm flipV="1">
            <a:off x="1905120" y="2666880"/>
            <a:ext cx="236196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5105520" y="274320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26"/>
          <p:cNvSpPr/>
          <p:nvPr/>
        </p:nvSpPr>
        <p:spPr>
          <a:xfrm flipH="1" flipV="1">
            <a:off x="2133360" y="2743200"/>
            <a:ext cx="251460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 matrix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Route 0,3,2,1,0 cost 3+6+2+5 = 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c4709a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2796120" y="20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2948400" y="524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5310720" y="356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1119600" y="364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25819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2719800" y="4175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23"/>
          <p:cNvSpPr/>
          <p:nvPr/>
        </p:nvSpPr>
        <p:spPr>
          <a:xfrm flipH="1">
            <a:off x="2057040" y="228600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24"/>
          <p:cNvSpPr/>
          <p:nvPr/>
        </p:nvSpPr>
        <p:spPr>
          <a:xfrm flipV="1">
            <a:off x="1905120" y="2666880"/>
            <a:ext cx="236196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25"/>
          <p:cNvSpPr/>
          <p:nvPr/>
        </p:nvSpPr>
        <p:spPr>
          <a:xfrm flipH="1">
            <a:off x="2133360" y="5410080"/>
            <a:ext cx="2361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2133720" y="2666880"/>
            <a:ext cx="251460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Amount of possible paths?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First city: 3 choices for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Second city: 2 choices (2 visit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Third city: 1 choice (3 visit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Altogether: 3*2*1= 6 pa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For 10 c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9*8*7*6*5*4*3*2*1 = 362 8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Generally (n-1)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For 100 cities: 99*98*...*3*2*1 = 9.3*(10 to power of 15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TSP search tree on four cit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3733920" y="1143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3733920" y="2286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1752480" y="22860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5715000" y="2286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Oval 11"/>
          <p:cNvSpPr/>
          <p:nvPr/>
        </p:nvSpPr>
        <p:spPr>
          <a:xfrm>
            <a:off x="12952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12"/>
          <p:cNvSpPr/>
          <p:nvPr/>
        </p:nvSpPr>
        <p:spPr>
          <a:xfrm>
            <a:off x="22860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3"/>
          <p:cNvSpPr/>
          <p:nvPr/>
        </p:nvSpPr>
        <p:spPr>
          <a:xfrm>
            <a:off x="34290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Oval 14"/>
          <p:cNvSpPr/>
          <p:nvPr/>
        </p:nvSpPr>
        <p:spPr>
          <a:xfrm>
            <a:off x="42670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5"/>
          <p:cNvSpPr/>
          <p:nvPr/>
        </p:nvSpPr>
        <p:spPr>
          <a:xfrm>
            <a:off x="54864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16"/>
          <p:cNvSpPr/>
          <p:nvPr/>
        </p:nvSpPr>
        <p:spPr>
          <a:xfrm>
            <a:off x="63244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17"/>
          <p:cNvSpPr/>
          <p:nvPr/>
        </p:nvSpPr>
        <p:spPr>
          <a:xfrm>
            <a:off x="1219320" y="4572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18"/>
          <p:cNvSpPr/>
          <p:nvPr/>
        </p:nvSpPr>
        <p:spPr>
          <a:xfrm>
            <a:off x="22860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19"/>
          <p:cNvSpPr/>
          <p:nvPr/>
        </p:nvSpPr>
        <p:spPr>
          <a:xfrm>
            <a:off x="3429000" y="472428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20"/>
          <p:cNvSpPr/>
          <p:nvPr/>
        </p:nvSpPr>
        <p:spPr>
          <a:xfrm>
            <a:off x="43434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21"/>
          <p:cNvSpPr/>
          <p:nvPr/>
        </p:nvSpPr>
        <p:spPr>
          <a:xfrm>
            <a:off x="5486400" y="472428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22"/>
          <p:cNvSpPr/>
          <p:nvPr/>
        </p:nvSpPr>
        <p:spPr>
          <a:xfrm>
            <a:off x="64008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23"/>
          <p:cNvSpPr/>
          <p:nvPr/>
        </p:nvSpPr>
        <p:spPr>
          <a:xfrm flipH="1">
            <a:off x="2133720" y="1371600"/>
            <a:ext cx="1676160" cy="9144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3886200" y="1447920"/>
            <a:ext cx="0" cy="76176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25"/>
          <p:cNvSpPr/>
          <p:nvPr/>
        </p:nvSpPr>
        <p:spPr>
          <a:xfrm>
            <a:off x="4114800" y="1371600"/>
            <a:ext cx="1523880" cy="9144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26"/>
          <p:cNvSpPr/>
          <p:nvPr/>
        </p:nvSpPr>
        <p:spPr>
          <a:xfrm flipH="1">
            <a:off x="1447920" y="2590920"/>
            <a:ext cx="380880" cy="83808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27"/>
          <p:cNvSpPr/>
          <p:nvPr/>
        </p:nvSpPr>
        <p:spPr>
          <a:xfrm>
            <a:off x="2133720" y="2590920"/>
            <a:ext cx="228600" cy="83808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28"/>
          <p:cNvSpPr/>
          <p:nvPr/>
        </p:nvSpPr>
        <p:spPr>
          <a:xfrm flipH="1">
            <a:off x="3657240" y="2590920"/>
            <a:ext cx="228600" cy="83808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29"/>
          <p:cNvSpPr/>
          <p:nvPr/>
        </p:nvSpPr>
        <p:spPr>
          <a:xfrm>
            <a:off x="4038480" y="2666880"/>
            <a:ext cx="304920" cy="7621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30"/>
          <p:cNvSpPr/>
          <p:nvPr/>
        </p:nvSpPr>
        <p:spPr>
          <a:xfrm flipH="1">
            <a:off x="5638320" y="2666880"/>
            <a:ext cx="228600" cy="685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31"/>
          <p:cNvSpPr/>
          <p:nvPr/>
        </p:nvSpPr>
        <p:spPr>
          <a:xfrm>
            <a:off x="6019920" y="2666880"/>
            <a:ext cx="380880" cy="685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32"/>
          <p:cNvSpPr/>
          <p:nvPr/>
        </p:nvSpPr>
        <p:spPr>
          <a:xfrm>
            <a:off x="1447920" y="3886200"/>
            <a:ext cx="0" cy="5335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33"/>
          <p:cNvSpPr/>
          <p:nvPr/>
        </p:nvSpPr>
        <p:spPr>
          <a:xfrm>
            <a:off x="2438280" y="3886200"/>
            <a:ext cx="0" cy="685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34"/>
          <p:cNvSpPr/>
          <p:nvPr/>
        </p:nvSpPr>
        <p:spPr>
          <a:xfrm>
            <a:off x="3657600" y="3886200"/>
            <a:ext cx="0" cy="7621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35"/>
          <p:cNvSpPr/>
          <p:nvPr/>
        </p:nvSpPr>
        <p:spPr>
          <a:xfrm>
            <a:off x="4495680" y="3886200"/>
            <a:ext cx="0" cy="60948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36"/>
          <p:cNvSpPr/>
          <p:nvPr/>
        </p:nvSpPr>
        <p:spPr>
          <a:xfrm>
            <a:off x="5715000" y="3886200"/>
            <a:ext cx="0" cy="685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37"/>
          <p:cNvSpPr/>
          <p:nvPr/>
        </p:nvSpPr>
        <p:spPr>
          <a:xfrm>
            <a:off x="6553080" y="3886200"/>
            <a:ext cx="0" cy="60948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38"/>
          <p:cNvSpPr/>
          <p:nvPr/>
        </p:nvSpPr>
        <p:spPr>
          <a:xfrm>
            <a:off x="2415240" y="15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3939120" y="15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40"/>
          <p:cNvSpPr/>
          <p:nvPr/>
        </p:nvSpPr>
        <p:spPr>
          <a:xfrm>
            <a:off x="5234400" y="15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41"/>
          <p:cNvSpPr/>
          <p:nvPr/>
        </p:nvSpPr>
        <p:spPr>
          <a:xfrm>
            <a:off x="1272240" y="272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2262600" y="272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420000" y="2819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244040" y="272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5310720" y="272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46"/>
          <p:cNvSpPr/>
          <p:nvPr/>
        </p:nvSpPr>
        <p:spPr>
          <a:xfrm>
            <a:off x="6453720" y="2651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905400" y="4876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189612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311508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1058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509652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601092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53"/>
          <p:cNvSpPr/>
          <p:nvPr/>
        </p:nvSpPr>
        <p:spPr>
          <a:xfrm>
            <a:off x="1219320" y="53341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54"/>
          <p:cNvSpPr/>
          <p:nvPr/>
        </p:nvSpPr>
        <p:spPr>
          <a:xfrm>
            <a:off x="2209680" y="541008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55"/>
          <p:cNvSpPr/>
          <p:nvPr/>
        </p:nvSpPr>
        <p:spPr>
          <a:xfrm>
            <a:off x="3352680" y="54864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56"/>
          <p:cNvSpPr/>
          <p:nvPr/>
        </p:nvSpPr>
        <p:spPr>
          <a:xfrm>
            <a:off x="4343400" y="54864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57"/>
          <p:cNvSpPr/>
          <p:nvPr/>
        </p:nvSpPr>
        <p:spPr>
          <a:xfrm>
            <a:off x="5410080" y="54864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Oval 58"/>
          <p:cNvSpPr/>
          <p:nvPr/>
        </p:nvSpPr>
        <p:spPr>
          <a:xfrm>
            <a:off x="6324480" y="55627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59"/>
          <p:cNvSpPr/>
          <p:nvPr/>
        </p:nvSpPr>
        <p:spPr>
          <a:xfrm>
            <a:off x="2438280" y="4876920"/>
            <a:ext cx="0" cy="53316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60"/>
          <p:cNvSpPr/>
          <p:nvPr/>
        </p:nvSpPr>
        <p:spPr>
          <a:xfrm>
            <a:off x="1371600" y="4876920"/>
            <a:ext cx="0" cy="53316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61"/>
          <p:cNvSpPr/>
          <p:nvPr/>
        </p:nvSpPr>
        <p:spPr>
          <a:xfrm>
            <a:off x="3581280" y="5029200"/>
            <a:ext cx="0" cy="5335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4495680" y="5029200"/>
            <a:ext cx="0" cy="5335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63"/>
          <p:cNvSpPr/>
          <p:nvPr/>
        </p:nvSpPr>
        <p:spPr>
          <a:xfrm>
            <a:off x="5486400" y="4952880"/>
            <a:ext cx="0" cy="5335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4"/>
          <p:cNvSpPr/>
          <p:nvPr/>
        </p:nvSpPr>
        <p:spPr>
          <a:xfrm>
            <a:off x="6400800" y="4952880"/>
            <a:ext cx="0" cy="5335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65"/>
          <p:cNvSpPr/>
          <p:nvPr/>
        </p:nvSpPr>
        <p:spPr>
          <a:xfrm>
            <a:off x="967320" y="387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2034000" y="402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3329640" y="4098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68"/>
          <p:cNvSpPr/>
          <p:nvPr/>
        </p:nvSpPr>
        <p:spPr>
          <a:xfrm>
            <a:off x="4091400" y="402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9"/>
          <p:cNvSpPr/>
          <p:nvPr/>
        </p:nvSpPr>
        <p:spPr>
          <a:xfrm>
            <a:off x="5387040" y="402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70"/>
          <p:cNvSpPr/>
          <p:nvPr/>
        </p:nvSpPr>
        <p:spPr>
          <a:xfrm>
            <a:off x="6148800" y="4098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71"/>
          <p:cNvSpPr/>
          <p:nvPr/>
        </p:nvSpPr>
        <p:spPr>
          <a:xfrm>
            <a:off x="6192360" y="685800"/>
            <a:ext cx="265572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This is an abstr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tree: it is not buil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into memory, we ju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have to pass the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and find the cheap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798C-861A-41F6-87FC-3F317F8EEE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line, simulated exploration of state space by generating successors of already-explored states (a.k.a.~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a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rcRect l="14844" t="37501" r="3127" b="28124"/>
          <a:stretch/>
        </p:blipFill>
        <p:spPr>
          <a:xfrm>
            <a:off x="609480" y="342900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F1C8-EC54-422C-87B2-FC40472F89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22" name="Picture 4" descr="search-map1c"/>
          <p:cNvPicPr/>
          <p:nvPr/>
        </p:nvPicPr>
        <p:blipFill>
          <a:blip r:embed="rId1"/>
          <a:stretch/>
        </p:blipFill>
        <p:spPr>
          <a:xfrm>
            <a:off x="1600200" y="1523880"/>
            <a:ext cx="57056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A512-C9A5-46AA-A981-DE33AAAA31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Picture 4" descr="search-map2c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72C-1A9C-48C1-B1E5-9A9E1A4058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Picture 4" descr="search-map3c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4B0-945D-47BD-ABEB-5BF9B4B2ED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8puzzle"/>
          <p:cNvPicPr/>
          <p:nvPr/>
        </p:nvPicPr>
        <p:blipFill>
          <a:blip r:embed="rId1"/>
          <a:stretch/>
        </p:blipFill>
        <p:spPr>
          <a:xfrm>
            <a:off x="2362320" y="16765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0129-AD4D-46A9-98E8-C8C701FB9F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strategy is defined by pick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rder of node expa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ies are evaluated along the following dim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solution if one exis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tim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number of nodes gene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spac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number of nodes in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optima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least-cost solu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and space complexity are measured in terms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ximum branching factor of the search 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 of the least-cost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depth of the state space (may b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62B6-A8C2-4605-9985-B8051A486A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nformed 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nform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arch strategies use only the information available in the problem 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d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orm-co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limited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60E4-69DD-46FC-A231-CB7379CEAF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Picture 4" descr="bfs-progress1c"/>
          <p:cNvPicPr/>
          <p:nvPr/>
        </p:nvPicPr>
        <p:blipFill>
          <a:blip r:embed="rId1"/>
          <a:stretch/>
        </p:blipFill>
        <p:spPr>
          <a:xfrm>
            <a:off x="2438280" y="3657600"/>
            <a:ext cx="426744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4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Footer Placeholder 5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E8A7-A02C-4CC2-8FD7-EF1BC922BA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5" descr="bfs-progress2c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00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3009-CF64-4961-8D88-DE45DACE83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5" descr="bfs-progress3c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55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2720-DA41-4889-B39B-7626BCFC35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Picture 5" descr="bfs-progress4c"/>
          <p:cNvPicPr/>
          <p:nvPr/>
        </p:nvPicPr>
        <p:blipFill>
          <a:blip r:embed="rId1"/>
          <a:stretch/>
        </p:blipFill>
        <p:spPr>
          <a:xfrm>
            <a:off x="2057400" y="3657600"/>
            <a:ext cx="464832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AA2C-1C71-4E7B-932A-BE1223153B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bread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(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in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+b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… +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keeps every node in mem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es (if cost = 1 per st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igger problem (more than t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AA02-6E82-47B6-9FC8-F3071D35C5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form-co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least-cost unexpand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queue ordered by path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breadth-first if step costs all eq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, if step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cost of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 – nodes expanded in increasing or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EAFB-A9C0-4441-B2DC-59E54C0851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4" descr="dfs-progress01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4FF4-D0E3-4FD3-A694-748F591094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5" descr="dfs-progress02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9FF0-E6EF-45C9-B86B-B89D5ECE96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s of ti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blank left, right, up, dow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goal state (gi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er 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ote: optimal solu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uzzle family is NP-har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6" descr="8puzzle"/>
          <p:cNvPicPr/>
          <p:nvPr/>
        </p:nvPicPr>
        <p:blipFill>
          <a:blip r:embed="rId1"/>
          <a:stretch/>
        </p:blipFill>
        <p:spPr>
          <a:xfrm>
            <a:off x="2362320" y="137160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8615-3153-422D-8281-FF0D613AE3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Picture 5" descr="dfs-progress03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718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E7DA-4E96-4E17-B0F9-4419EDFAFF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Picture 5" descr="dfs-progress04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131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4AE-5F3D-47DF-996A-5B1DB60BDD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5" descr="dfs-progress05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69C9-7F53-4C91-B55E-6B01C3D599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6" descr="dfs-progress06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F575-470B-4F66-B7DA-FECBF47224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dfs-progress07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3580-FAE1-4B2F-8E16-70F3C03319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5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dfs-progress08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A71D-9F37-42F7-90AB-ABD7287876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2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dfs-progress09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10B6-9D87-4905-B780-EDEB68B2C7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dfs-progress10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782E-853D-4B42-97FA-ADA5D36463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6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dfs-progress11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6FEB-4F9A-41B8-B3A3-BFFB6E36DD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3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dfs-progress12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73EA-F64C-4655-A0C7-E2725D51D9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botic assembl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al-valued coordinates of robot joint angles parts of the object to be assem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ntinuous motions of robot j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mplete 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ime to exec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stanford-arm+blocks"/>
          <p:cNvPicPr/>
          <p:nvPr/>
        </p:nvPicPr>
        <p:blipFill>
          <a:blip r:embed="rId1"/>
          <a:stretch/>
        </p:blipFill>
        <p:spPr>
          <a:xfrm>
            <a:off x="1676520" y="1295280"/>
            <a:ext cx="5800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681D-BCA8-4119-8E81-EF260E7D1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dep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: fails in infinite-depth spaces, spaces with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o avoid repeated states along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 in finite sp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erribl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uch larger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solutions are dense, may be much faster than breadth-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m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, linea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5BB7-091D-4B8F-865D-4C0AD758EC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limited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depth-first search with depth lim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, node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no suc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Recursive 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rcRect l="58203" t="36462" r="7422" b="20835"/>
          <a:stretch/>
        </p:blipFill>
        <p:spPr>
          <a:xfrm>
            <a:off x="914400" y="3124080"/>
            <a:ext cx="6705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CCCC-09FD-4DBB-897A-B89446E6B4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rcRect l="14844" t="18753" r="3127" b="51046"/>
          <a:stretch/>
        </p:blipFill>
        <p:spPr>
          <a:xfrm>
            <a:off x="762120" y="1600200"/>
            <a:ext cx="8001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B164-A481-453A-A83D-0D648115D0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75" name="Picture 4" descr="ids-progress1c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5804-AC06-4FC1-B1F7-3A77C0E55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80" name="Picture 4" descr="ids-progress2c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8D91-6382-4F4B-B000-88BDB67220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2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85" name="Picture 4" descr="ids-progress3c"/>
          <p:cNvPicPr/>
          <p:nvPr/>
        </p:nvPicPr>
        <p:blipFill>
          <a:blip r:embed="rId1"/>
          <a:stretch/>
        </p:blipFill>
        <p:spPr>
          <a:xfrm>
            <a:off x="762120" y="1652760"/>
            <a:ext cx="761976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B651-B1CB-4C6B-9DA7-383EFE3DD2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3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90" name="Picture 4" descr="ids-progress4c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FF82-789C-4038-9549-8B2963EB2B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 depth-limited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L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n iterative deepening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d+1)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d 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(d-1)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… + 3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=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=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D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 + 10 + 100 + 1,000 + 10,000 + 100,000 = 111,1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 + 50 + 400 + 3,000 + 20,000 + 100,000 = 123,45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 = (123,456 - 111,111)/111,111 = 1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4CF5-F076-4F45-9E80-51E19968B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d+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d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(d-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= 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, if step cost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9EEA-E40E-4FB5-A959-3A196D045A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 of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rcRect l="14065" t="22917" r="17970" b="51046"/>
          <a:stretch/>
        </p:blipFill>
        <p:spPr>
          <a:xfrm>
            <a:off x="1143000" y="1676520"/>
            <a:ext cx="662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Travelling salesman proble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Traveller starts from Tallinn, w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to visit some cities: New York, London, Tokyo, …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d come back to 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Tallin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ch city visited exactly once (except first and last city is both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 Tallin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st of travel between each pair of cities is giv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im: To minimize the cost. If possible, find 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ur 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with the least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cost</a:t>
            </a: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9191-EBF6-4416-8983-7D76EF21FC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peated stat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lure to detect repeated states can turn a linear problem into an exponential on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Picture 4" descr="ribbon-space"/>
          <p:cNvPicPr/>
          <p:nvPr/>
        </p:nvPicPr>
        <p:blipFill>
          <a:blip r:embed="rId1"/>
          <a:stretch/>
        </p:blipFill>
        <p:spPr>
          <a:xfrm>
            <a:off x="304920" y="2895480"/>
            <a:ext cx="8229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F3C4-9B33-46C0-9A3E-3BEADFB43C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rcRect l="14065" t="16666" r="3127" b="35419"/>
          <a:stretch/>
        </p:blipFill>
        <p:spPr>
          <a:xfrm>
            <a:off x="609480" y="1676520"/>
            <a:ext cx="8077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C893-DC6D-41E4-8C53-B23C1DB8FD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formulation usually requires abstracting away real-world details to define a state space that can feasibly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ty of uninformed search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deepening search uses only linear space and not much more time than other uninformed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Informed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Date Placeholder 3"/>
          <p:cNvSpPr/>
          <p:nvPr/>
        </p:nvSpPr>
        <p:spPr>
          <a:xfrm>
            <a:off x="3049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 Jan 2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04812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3243 - Blind 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6CE9-D780-42A8-A781-9214BB4ADF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est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use 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valuati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(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of "desirability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and most desirable unexpanded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the nodes in fringe in decreasing order of desir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edy best-first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omania with step costs in k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30" name="Picture 4" descr="romania2"/>
          <p:cNvPicPr/>
          <p:nvPr/>
        </p:nvPicPr>
        <p:blipFill>
          <a:blip r:embed="rId1"/>
          <a:stretch/>
        </p:blipFill>
        <p:spPr>
          <a:xfrm>
            <a:off x="380880" y="1828800"/>
            <a:ext cx="82296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eedy best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(n) = h(n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rist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estimate of cost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SL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n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traight-line distance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Buchar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dy best-first search expands the node tha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pea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be closest to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eedy 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bf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34" name="Picture 4" descr="greedy-progress01c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greedy-progress02c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eedy 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bf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greedy-progress03c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eedy 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bf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mall and simple cas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1143720" y="1676520"/>
            <a:ext cx="6439680" cy="4442760"/>
            <a:chOff x="1143720" y="1676520"/>
            <a:chExt cx="6439680" cy="4442760"/>
          </a:xfrm>
        </p:grpSpPr>
        <p:sp>
          <p:nvSpPr>
            <p:cNvPr id="119" name="Freeform 8"/>
            <p:cNvSpPr/>
            <p:nvPr/>
          </p:nvSpPr>
          <p:spPr>
            <a:xfrm>
              <a:off x="1877760" y="1676520"/>
              <a:ext cx="3484800" cy="4114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9"/>
            <p:cNvSpPr/>
            <p:nvPr/>
          </p:nvSpPr>
          <p:spPr>
            <a:xfrm>
              <a:off x="2743200" y="2809800"/>
              <a:ext cx="1887480" cy="430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0"/>
            <p:cNvSpPr/>
            <p:nvPr/>
          </p:nvSpPr>
          <p:spPr>
            <a:xfrm>
              <a:off x="4630680" y="2695680"/>
              <a:ext cx="2003400" cy="24667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1"/>
            <p:cNvSpPr/>
            <p:nvPr/>
          </p:nvSpPr>
          <p:spPr>
            <a:xfrm>
              <a:off x="2725560" y="4125960"/>
              <a:ext cx="2206800" cy="691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Oval 12"/>
            <p:cNvSpPr/>
            <p:nvPr/>
          </p:nvSpPr>
          <p:spPr>
            <a:xfrm>
              <a:off x="2666880" y="40402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1828800" y="47260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3504960" y="5716440"/>
              <a:ext cx="152640" cy="15264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5029200" y="47260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6476760" y="5030640"/>
              <a:ext cx="152640" cy="15264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790960" y="2668680"/>
              <a:ext cx="15264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4495680" y="19828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2590560" y="2135160"/>
              <a:ext cx="15264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2666880" y="31258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Oval 21"/>
            <p:cNvSpPr/>
            <p:nvPr/>
          </p:nvSpPr>
          <p:spPr>
            <a:xfrm>
              <a:off x="4572000" y="2897280"/>
              <a:ext cx="152280" cy="152280"/>
            </a:xfrm>
            <a:prstGeom prst="ellipse">
              <a:avLst/>
            </a:prstGeom>
            <a:solidFill>
              <a:srgbClr val="c470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3643560" y="5659560"/>
              <a:ext cx="16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Muddy Ga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3"/>
            <p:cNvSpPr/>
            <p:nvPr/>
          </p:nvSpPr>
          <p:spPr>
            <a:xfrm>
              <a:off x="4861800" y="48211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Casp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6386040" y="51260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Dougla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25"/>
            <p:cNvSpPr/>
            <p:nvPr/>
          </p:nvSpPr>
          <p:spPr>
            <a:xfrm>
              <a:off x="5941440" y="2382840"/>
              <a:ext cx="11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Gillettt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4372200" y="251604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Buffal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Text Box 27"/>
            <p:cNvSpPr/>
            <p:nvPr/>
          </p:nvSpPr>
          <p:spPr>
            <a:xfrm>
              <a:off x="4708800" y="16970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Sherida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1371960" y="19256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Greybul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1431720" y="291636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Worlan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30"/>
            <p:cNvSpPr/>
            <p:nvPr/>
          </p:nvSpPr>
          <p:spPr>
            <a:xfrm>
              <a:off x="2804760" y="36021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Shoshon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31"/>
            <p:cNvSpPr/>
            <p:nvPr/>
          </p:nvSpPr>
          <p:spPr>
            <a:xfrm>
              <a:off x="1143720" y="480204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Land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Text Box 32"/>
          <p:cNvSpPr/>
          <p:nvPr/>
        </p:nvSpPr>
        <p:spPr>
          <a:xfrm>
            <a:off x="4570200" y="838080"/>
            <a:ext cx="4385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art of Wyoming’s (a USA State)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Roa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greedy-progress04c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eedy best-first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perties of greedy 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bf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 – can get stuck in loops, e.g.,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but a good heuristic can give dramatic impr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 keeps all nodes in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: avoid expanding paths that are already exp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(n) = g(n) +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cost so far to reac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estimated cost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(n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estimated total cost of path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46" name="Picture 4" descr="astar-progress01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astar-progress02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50" name="Picture 5" descr="astar-progress03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52" name="Picture 4" descr="astar-progress04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54" name="Picture 4" descr="astar-progress05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ahoma"/>
              </a:rPr>
              <a:t>*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56" name="Picture 4" descr="astar-progress06c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any optimization problems,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goal is irrelevant; the goal state itself is the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space = set of "complete" configu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configuration satisfying constraints, e.g., n-que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uch cases, we can us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cal search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 single "current" state, try to improv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: a bit bigger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6094080" y="1143000"/>
            <a:ext cx="244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 cities of Qa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33" descr="C:\Documents and Settings\Tanel Tammet\My Documents\Lectures\Progpohikursus\qapoints.gif"/>
          <p:cNvPicPr/>
          <p:nvPr/>
        </p:nvPicPr>
        <p:blipFill>
          <a:blip r:embed="rId1"/>
          <a:stretch/>
        </p:blipFill>
        <p:spPr>
          <a:xfrm>
            <a:off x="914400" y="762120"/>
            <a:ext cx="33973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</a:t>
            </a:r>
            <a:r>
              <a:rPr b="0" i="1" lang="en-US" sz="4400" spc="-1" strike="noStrike">
                <a:solidFill>
                  <a:srgbClr val="000066"/>
                </a:solidFill>
                <a:latin typeface="Tahoma"/>
              </a:rPr>
              <a:t>n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-quee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eens on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×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ard with no two queens on the same row, column, or diag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Picture 4" descr="4queens-sequence"/>
          <p:cNvPicPr/>
          <p:nvPr/>
        </p:nvPicPr>
        <p:blipFill>
          <a:blip r:embed="rId1"/>
          <a:stretch/>
        </p:blipFill>
        <p:spPr>
          <a:xfrm>
            <a:off x="838080" y="3505320"/>
            <a:ext cx="7467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ill-climb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Like climbing Everest in thick fog with amnesia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rcRect l="17970" t="27086" r="13282" b="36462"/>
          <a:stretch/>
        </p:blipFill>
        <p:spPr>
          <a:xfrm>
            <a:off x="838080" y="2743200"/>
            <a:ext cx="76201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ill-climb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depending on initial state, can get stuck in local max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Picture 4" descr="hill-climbing"/>
          <p:cNvPicPr/>
          <p:nvPr/>
        </p:nvPicPr>
        <p:blipFill>
          <a:blip r:embed="rId1"/>
          <a:stretch/>
        </p:blipFill>
        <p:spPr>
          <a:xfrm>
            <a:off x="1066680" y="2743200"/>
            <a:ext cx="69343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Hill-climbing search: 8-queens problem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number of pairs of queens that are attacking each other, either directly or indirectl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 = 17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above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0" name="Picture 5" descr="8queens-successors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Hill-climbing search: 8-queens problem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72" name="Picture 4" descr="8queens-local-minimum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6"/>
          <p:cNvSpPr/>
          <p:nvPr/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ocal minimum wit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imulated anneal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: escape local maxima by allowing some "bad" moves but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radually decre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i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rcRect l="17970" t="31250" r="13282" b="17709"/>
          <a:stretch/>
        </p:blipFill>
        <p:spPr>
          <a:xfrm>
            <a:off x="1371600" y="3048120"/>
            <a:ext cx="62485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p</a:t>
            </a: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of simulated anneal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can prove: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creases slowly enough, then simulated annealing search will find a global optimum with probability approaching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ly used in VLSI layout, airline scheduling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: a bit bigger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094800" y="1143000"/>
            <a:ext cx="246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atar optimal T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9" descr="C:\Documents and Settings\Tanel Tammet\My Documents\Lectures\Progpohikursus\qatour.gif"/>
          <p:cNvPicPr/>
          <p:nvPr/>
        </p:nvPicPr>
        <p:blipFill>
          <a:blip r:embed="rId1"/>
          <a:stretch/>
        </p:blipFill>
        <p:spPr>
          <a:xfrm>
            <a:off x="1028880" y="838080"/>
            <a:ext cx="475272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66"/>
                </a:solidFill>
                <a:latin typeface="Tahoma"/>
              </a:rPr>
              <a:t>Exampl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: Finlan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639400" y="1143000"/>
            <a:ext cx="36280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106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ry good, but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9" descr="C:\Documents and Settings\Tanel Tammet\My Documents\Lectures\Progpohikursus\fitour.gif"/>
          <p:cNvPicPr/>
          <p:nvPr/>
        </p:nvPicPr>
        <p:blipFill>
          <a:blip r:embed="rId1"/>
          <a:stretch/>
        </p:blipFill>
        <p:spPr>
          <a:xfrm>
            <a:off x="609480" y="685800"/>
            <a:ext cx="47977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58:58Z</dcterms:created>
  <dc:creator>Min-Yen Kan</dc:creator>
  <dc:description/>
  <dc:language>en-US</dc:language>
  <cp:lastModifiedBy>tanel</cp:lastModifiedBy>
  <dcterms:modified xsi:type="dcterms:W3CDTF">2009-02-13T00:05:50Z</dcterms:modified>
  <cp:revision>15</cp:revision>
  <dc:subject/>
  <dc:title>Solving problems by searching</dc:title>
</cp:coreProperties>
</file>